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6.jpeg" ContentType="image/jpeg"/>
  <Override PartName="/ppt/media/image24.wmf" ContentType="image/x-wmf"/>
  <Override PartName="/ppt/media/image22.png" ContentType="image/png"/>
  <Override PartName="/ppt/media/image1.jpeg" ContentType="image/jpeg"/>
  <Override PartName="/ppt/media/image21.wmf" ContentType="image/x-wmf"/>
  <Override PartName="/ppt/media/image19.wmf" ContentType="image/x-wmf"/>
  <Override PartName="/ppt/media/image17.png" ContentType="image/png"/>
  <Override PartName="/ppt/media/image16.png" ContentType="image/png"/>
  <Override PartName="/ppt/media/image23.jpeg" ContentType="image/jpeg"/>
  <Override PartName="/ppt/media/image2.jpeg" ContentType="image/jpeg"/>
  <Override PartName="/ppt/media/image5.jpeg" ContentType="image/jpeg"/>
  <Override PartName="/ppt/media/image11.gif" ContentType="image/gif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386-3D48-4987-A08E-B1AEF793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D402-CDE6-49A9-A3E0-69A64446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590A-34B3-4A5E-BC9B-6E1558F3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C2C4-85DD-4041-A62A-0D0A41F2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9F5C-4567-462A-A7C5-C67E9054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753-DF8A-44F1-99E1-2305DC5F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03B-547A-42E6-955D-C5EA9A26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AA3-8513-4A34-B304-6A175606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6DB-60D5-4F6A-8A3E-FFCEC098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2E2-0FE6-4EB3-9F3D-EC1F4FE7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2CB1-8315-47C1-AFC6-4D7143F9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977-A329-483E-B455-F9DF32AA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AD09-AEA8-44D3-9C8C-CDE3DB14F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 in Six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43600" y="609480"/>
            <a:ext cx="3200400" cy="29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ressure is o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at last pl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2004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rew Stew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FRESHER, SMARTER, 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Berlin Sans FB Demi"/>
              </a:rPr>
              <a:t>READY FOR THE WORLD:</a:t>
            </a:r>
            <a:r>
              <a:rPr b="0" lang="en-US" sz="2000" spc="-1" strike="noStrike">
                <a:solidFill>
                  <a:srgbClr val="000000"/>
                </a:solidFill>
                <a:latin typeface="Amienn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 MAX SHIBL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467480" y="3048120"/>
            <a:ext cx="1417680" cy="2971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203976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819520" y="2819520"/>
            <a:ext cx="3809880" cy="3373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886200" y="0"/>
            <a:ext cx="142416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lvenda Cooler"/>
              </a:rPr>
              <a:t>When in doubt </a:t>
            </a:r>
            <a:r>
              <a:rPr b="0" lang="en-US" sz="5400" spc="-1" strike="noStrike">
                <a:solidFill>
                  <a:srgbClr val="000000"/>
                </a:solidFill>
                <a:latin typeface="Velvenda Cooler"/>
              </a:rPr>
              <a:t>spike</a:t>
            </a:r>
            <a:r>
              <a:rPr b="0" lang="en-US" sz="4800" spc="-1" strike="noStrike">
                <a:solidFill>
                  <a:srgbClr val="000000"/>
                </a:solidFill>
                <a:latin typeface="Velvenda Coole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Velvenda Cooler"/>
              </a:rPr>
              <a:t>the ba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arah Schr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Basketball is a fast-paced s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6019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 sports, I speak with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569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y Rob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expresses my life’s inner emo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Carlos Perk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2668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781680" y="4844880"/>
            <a:ext cx="236232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radley Hand ITC"/>
              </a:rPr>
              <a:t>Life’s wonderful when I have happ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radley Hand ITC"/>
              </a:rPr>
              <a:t>~ Vindhya Mar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When I TRY, </a:t>
            </a:r>
            <a:r>
              <a:rPr b="0" lang="en-US" sz="4400" spc="-1" strike="noStrike">
                <a:solidFill>
                  <a:srgbClr val="ffffff"/>
                </a:solidFill>
                <a:latin typeface="Forte"/>
              </a:rPr>
              <a:t>I WILL succeed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avie"/>
              </a:rPr>
              <a:t>:D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562720" y="220932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Harlow Solid Italic"/>
              </a:rPr>
              <a:t>Symone J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705720" y="3276720"/>
            <a:ext cx="1285920" cy="1160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05320" y="29718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657600" y="4876920"/>
            <a:ext cx="1600200" cy="15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1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Broadway"/>
              </a:rPr>
              <a:t>Live life LOUD, its more fun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14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roadway"/>
              </a:rPr>
              <a:t>- Sydney Gold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04776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nprior"/>
              </a:rPr>
              <a:t>Great Music comes from the fin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57040" y="53352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h Che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upcat"/>
              </a:rPr>
              <a:t>BE Yourself, everyone else is t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8560" y="55260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rra Wilk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95280" y="5562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Dogs are Very Har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35200" y="268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tin Wa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Rules make every one else ha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943600" y="624816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Emma Brooksh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low Solid Italic"/>
              </a:rPr>
              <a:t>If I die, I’ll die</a:t>
            </a:r>
            <a:r>
              <a:rPr b="0" lang="en-US" sz="6000" spc="-1" strike="noStrike">
                <a:solidFill>
                  <a:srgbClr val="cc0000"/>
                </a:solidFill>
                <a:latin typeface="Harlow Solid Italic"/>
              </a:rPr>
              <a:t> reading</a:t>
            </a:r>
            <a:r>
              <a:rPr b="0" lang="en-US" sz="6000" spc="-1" strike="noStrike">
                <a:solidFill>
                  <a:srgbClr val="ffffff"/>
                </a:solidFill>
                <a:latin typeface="Harlow Solid Italic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arlow Solid Italic"/>
              </a:rPr>
              <a:t>-Claire Berend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5029200" y="609480"/>
            <a:ext cx="99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68b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P's</a:t>
            </a:r>
            <a:endParaRPr b="0" lang="en-US" sz="1800" spc="1" strike="noStrike">
              <a:ln w="9360">
                <a:solidFill>
                  <a:srgbClr val="968b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629400" y="3962520"/>
            <a:ext cx="1562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69696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own's</a:t>
            </a:r>
            <a:endParaRPr b="0" lang="en-US" sz="1800" spc="1" strike="noStrike">
              <a:ln w="9360">
                <a:solidFill>
                  <a:srgbClr val="969696"/>
                </a:solidFill>
                <a:miter/>
              </a:ln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43600" y="2590920"/>
            <a:ext cx="47628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d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2120" y="2743200"/>
            <a:ext cx="4038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6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ife Has It's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553080" y="6324480"/>
            <a:ext cx="24433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y Amanda Lauren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-435096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280" y="15228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Enjoy Today. It only happens o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80400" y="6019920"/>
            <a:ext cx="29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ahoma"/>
              </a:rPr>
              <a:t>Chloe Bax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Music from heart, heart from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34440" y="541008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iam 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Juice ITC"/>
              </a:rPr>
              <a:t>Life is tough, so chalk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11480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-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17:24:47Z</dcterms:created>
  <dc:creator>Administrator</dc:creator>
  <dc:description/>
  <dc:language>en-US</dc:language>
  <cp:lastModifiedBy>Administrator</cp:lastModifiedBy>
  <dcterms:modified xsi:type="dcterms:W3CDTF">2010-08-23T16:05:06Z</dcterms:modified>
  <cp:revision>15</cp:revision>
  <dc:subject/>
  <dc:title>Slide 1</dc:title>
</cp:coreProperties>
</file>